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5680" y="718920"/>
            <a:ext cx="4803840" cy="360180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C5BB-0CCB-4991-9F90-D96635C083D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5680" y="719280"/>
            <a:ext cx="4803840" cy="3601800"/>
          </a:xfrm>
          <a:prstGeom prst="rect">
            <a:avLst/>
          </a:prstGeom>
          <a:ln w="0">
            <a:noFill/>
          </a:ln>
        </p:spPr>
      </p:sp>
      <p:sp>
        <p:nvSpPr>
          <p:cNvPr id="18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3E3C-53F4-4BBD-9403-4A5523567D4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5680" y="719280"/>
            <a:ext cx="4803840" cy="3601800"/>
          </a:xfrm>
          <a:prstGeom prst="rect">
            <a:avLst/>
          </a:prstGeom>
          <a:ln w="0">
            <a:noFill/>
          </a:ln>
        </p:spPr>
      </p:sp>
      <p:sp>
        <p:nvSpPr>
          <p:cNvPr id="20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702F-4084-4D35-9E1D-7486D53C355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5680" y="719280"/>
            <a:ext cx="4803840" cy="3601800"/>
          </a:xfrm>
          <a:prstGeom prst="rect">
            <a:avLst/>
          </a:prstGeom>
          <a:ln w="0">
            <a:noFill/>
          </a:ln>
        </p:spPr>
      </p:sp>
      <p:sp>
        <p:nvSpPr>
          <p:cNvPr id="19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5D41-8592-4C4F-A277-FF034B2ED13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5680" y="719280"/>
            <a:ext cx="4803840" cy="3601800"/>
          </a:xfrm>
          <a:prstGeom prst="rect">
            <a:avLst/>
          </a:prstGeom>
          <a:ln w="0">
            <a:noFill/>
          </a:ln>
        </p:spPr>
      </p:sp>
      <p:sp>
        <p:nvSpPr>
          <p:cNvPr id="19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172B-0FF6-4E60-85D2-70A60E0652B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5680" y="719280"/>
            <a:ext cx="4803840" cy="3601800"/>
          </a:xfrm>
          <a:prstGeom prst="rect">
            <a:avLst/>
          </a:prstGeom>
          <a:ln w="0">
            <a:noFill/>
          </a:ln>
        </p:spPr>
      </p:sp>
      <p:sp>
        <p:nvSpPr>
          <p:cNvPr id="19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wnload the rebate application from the DEP Alternative Fuel Vehicle Website.  Look to reassess the program and announce more rebates being available in J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6EDD-DAFB-44F4-9378-FEA9932E3DD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5680" y="719280"/>
            <a:ext cx="4803840" cy="360180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D696-2D5F-4398-A9C4-D7EBD9B3022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5680" y="719280"/>
            <a:ext cx="4803840" cy="3601800"/>
          </a:xfrm>
          <a:prstGeom prst="rect">
            <a:avLst/>
          </a:prstGeom>
          <a:ln w="0">
            <a:noFill/>
          </a:ln>
        </p:spPr>
      </p:sp>
      <p:sp>
        <p:nvSpPr>
          <p:cNvPr id="20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F569-260A-49BF-A20F-50FC96AF101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5136A-E541-496F-AE70-8B54DCF7F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BCD3-1CC0-478D-9A90-D5080F06F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0B3BE-8C79-44E9-829C-D849EF2D0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2700A-6FA0-4D4A-ACF9-E68F50E2C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BB92-ED9B-449B-B8F1-C8E0AE0E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271FE-ABCC-4DC9-B10D-74840897E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EBE29-074C-4ACD-BAB8-921D4876D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44788-F47B-4F80-919A-845372C6B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1BBC0-B71D-4ED9-887B-95DF26C19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6F2F-083A-49A3-BCB8-0C94AEC50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48CB-0D99-4502-B1C9-842430FC7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7E733-1D3F-4F2E-86B5-F168B27F3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E3FB-4B64-44FC-AC07-DB8518254A37}"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6533-104B-4C2B-978F-7434995188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4400" spc="-1" strike="noStrike">
                <a:solidFill>
                  <a:srgbClr val="000000"/>
                </a:solidFill>
                <a:latin typeface="Calibri"/>
              </a:rPr>
              <a:t>2016 </a:t>
            </a:r>
            <a:br>
              <a:rPr sz="4400"/>
            </a:br>
            <a:r>
              <a:rPr b="1" lang="en-US" sz="4400" spc="-1" strike="noStrike">
                <a:solidFill>
                  <a:srgbClr val="000000"/>
                </a:solidFill>
                <a:latin typeface="Calibri"/>
              </a:rPr>
              <a:t>DEP Alternative Fuel Incentive Grant Program - Update</a:t>
            </a:r>
            <a:br>
              <a:rPr sz="4400"/>
            </a:b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3505320"/>
            <a:ext cx="579096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17, 2016</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0" name="Picture 5" descr="\\pa.lcl\epshares\LogoTemplates\DEP PowerPoint headers\POLICYTEMPLATE.jpg"/>
          <p:cNvPicPr/>
          <p:nvPr/>
        </p:nvPicPr>
        <p:blipFill>
          <a:blip r:embed="rId1"/>
          <a:stretch/>
        </p:blipFill>
        <p:spPr>
          <a:xfrm>
            <a:off x="0" y="0"/>
            <a:ext cx="9144000" cy="1177920"/>
          </a:xfrm>
          <a:prstGeom prst="rect">
            <a:avLst/>
          </a:prstGeom>
          <a:ln w="0">
            <a:noFill/>
          </a:ln>
        </p:spPr>
      </p:pic>
      <p:sp>
        <p:nvSpPr>
          <p:cNvPr id="51" name="Slide Number Placeholder 2"/>
          <p:cNvSpPr/>
          <p:nvPr/>
        </p:nvSpPr>
        <p:spPr>
          <a:xfrm>
            <a:off x="3505320" y="64008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2BF9-BB74-44D3-A102-DF0C858275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075E-383F-4395-8E3B-28E3B5ABD4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DF03-203F-4AB6-8558-21321DD8D0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 name="Content Placeholder 2"/>
          <p:cNvSpPr/>
          <p:nvPr/>
        </p:nvSpPr>
        <p:spPr>
          <a:xfrm>
            <a:off x="441360" y="11430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ofuel Use Projects </a:t>
            </a:r>
            <a:r>
              <a:rPr b="0" lang="en-US" sz="2400" spc="-1" strike="noStrike">
                <a:solidFill>
                  <a:srgbClr val="000000"/>
                </a:solidFill>
                <a:latin typeface="Calibri"/>
              </a:rPr>
              <a:t>- AFIG will provide incremental cost funds to support the purchase of high-content biofuels. High –content biofuel use projects include the purchase and use of transportation fuels which contain at least 5% biodiesel (or greater blend amounts) and/or 85% ethan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novative Technology </a:t>
            </a:r>
            <a:r>
              <a:rPr b="0" lang="en-US" sz="2400" spc="-1" strike="noStrike">
                <a:solidFill>
                  <a:srgbClr val="000000"/>
                </a:solidFill>
                <a:latin typeface="Calibri"/>
              </a:rPr>
              <a:t>– Under this project category, AFIG is seeking to fund projects that develop or demonstrate next phase technologies within the alternative fuels transportation sector. The project must be the first deployment of the technology in Pennsylvani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15" name="Group 1"/>
          <p:cNvGrpSpPr/>
          <p:nvPr/>
        </p:nvGrpSpPr>
        <p:grpSpPr>
          <a:xfrm>
            <a:off x="289080" y="355680"/>
            <a:ext cx="8381880" cy="660240"/>
            <a:chOff x="289080" y="355680"/>
            <a:chExt cx="8381880" cy="660240"/>
          </a:xfrm>
        </p:grpSpPr>
        <p:pic>
          <p:nvPicPr>
            <p:cNvPr id="116" name="Picture 5" descr="Aging banner"/>
            <p:cNvPicPr/>
            <p:nvPr/>
          </p:nvPicPr>
          <p:blipFill>
            <a:blip r:embed="rId1"/>
            <a:stretch/>
          </p:blipFill>
          <p:spPr>
            <a:xfrm>
              <a:off x="289080" y="355680"/>
              <a:ext cx="8381880" cy="660240"/>
            </a:xfrm>
            <a:prstGeom prst="rect">
              <a:avLst/>
            </a:prstGeom>
            <a:ln w="0">
              <a:noFill/>
            </a:ln>
          </p:spPr>
        </p:pic>
        <p:sp>
          <p:nvSpPr>
            <p:cNvPr id="117"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igible Project Categories</a:t>
              </a:r>
              <a:endParaRPr b="0" lang="en-US" sz="4000" spc="-1" strike="noStrike">
                <a:solidFill>
                  <a:srgbClr val="000000"/>
                </a:solidFill>
                <a:latin typeface="Calibri"/>
              </a:endParaRPr>
            </a:p>
          </p:txBody>
        </p:sp>
      </p:grpSp>
      <p:pic>
        <p:nvPicPr>
          <p:cNvPr id="118"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19"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4DB9-C9C7-4D34-8E18-1C51278871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70000" y="1219320"/>
            <a:ext cx="822960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 intends to make grant awards prior to the next application deadline, so any applicant not awarded has time to resubmit, if desir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unsuccessful applicants will be provided an opportunity to review their application with AFIG staff and resubmit their application during upcoming submission period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rtunities for identifying technical assistan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successful applica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 technical assistance progr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ities</a:t>
            </a:r>
            <a:endParaRPr b="0" lang="en-US" sz="20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21" name="Group 1"/>
          <p:cNvGrpSpPr/>
          <p:nvPr/>
        </p:nvGrpSpPr>
        <p:grpSpPr>
          <a:xfrm>
            <a:off x="289080" y="355680"/>
            <a:ext cx="8381880" cy="660240"/>
            <a:chOff x="289080" y="355680"/>
            <a:chExt cx="8381880" cy="660240"/>
          </a:xfrm>
        </p:grpSpPr>
        <p:pic>
          <p:nvPicPr>
            <p:cNvPr id="122" name="Picture 5" descr="Aging banner"/>
            <p:cNvPicPr/>
            <p:nvPr/>
          </p:nvPicPr>
          <p:blipFill>
            <a:blip r:embed="rId1"/>
            <a:stretch/>
          </p:blipFill>
          <p:spPr>
            <a:xfrm>
              <a:off x="289080" y="355680"/>
              <a:ext cx="8381880" cy="660240"/>
            </a:xfrm>
            <a:prstGeom prst="rect">
              <a:avLst/>
            </a:prstGeom>
            <a:ln w="0">
              <a:noFill/>
            </a:ln>
          </p:spPr>
        </p:pic>
        <p:sp>
          <p:nvSpPr>
            <p:cNvPr id="123"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ward Process</a:t>
              </a:r>
              <a:endParaRPr b="0" lang="en-US" sz="4000" spc="-1" strike="noStrike">
                <a:solidFill>
                  <a:srgbClr val="000000"/>
                </a:solidFill>
                <a:latin typeface="Calibri"/>
              </a:endParaRPr>
            </a:p>
          </p:txBody>
        </p:sp>
      </p:grpSp>
      <p:pic>
        <p:nvPicPr>
          <p:cNvPr id="124"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25"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0F1F-B635-44E2-A218-D638355B76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627B-77DD-48C9-A403-0A902E24E2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C5B6-5E2B-49C0-8BB0-21B972C070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E44B-0311-4848-9879-1BD6DF29B6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9" name="Content Placeholder 2"/>
          <p:cNvSpPr/>
          <p:nvPr/>
        </p:nvSpPr>
        <p:spPr>
          <a:xfrm>
            <a:off x="441360" y="13716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AFIG application acceptance period ended April 29, 201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applications were submitted out of 54 started in DEP’s eGrants syste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unsubmitted applications remain in eGrants system for applicants to complete in second acceptance period</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 are potential applications for next submission perio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8 million total grant funds applied f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scoring has begu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30" name="Group 1"/>
          <p:cNvGrpSpPr/>
          <p:nvPr/>
        </p:nvGrpSpPr>
        <p:grpSpPr>
          <a:xfrm>
            <a:off x="289080" y="355680"/>
            <a:ext cx="8381880" cy="660240"/>
            <a:chOff x="289080" y="355680"/>
            <a:chExt cx="8381880" cy="660240"/>
          </a:xfrm>
        </p:grpSpPr>
        <p:pic>
          <p:nvPicPr>
            <p:cNvPr id="131" name="Picture 5" descr="Aging banner"/>
            <p:cNvPicPr/>
            <p:nvPr/>
          </p:nvPicPr>
          <p:blipFill>
            <a:blip r:embed="rId1"/>
            <a:stretch/>
          </p:blipFill>
          <p:spPr>
            <a:xfrm>
              <a:off x="289080" y="355680"/>
              <a:ext cx="8381880" cy="660240"/>
            </a:xfrm>
            <a:prstGeom prst="rect">
              <a:avLst/>
            </a:prstGeom>
            <a:ln w="0">
              <a:noFill/>
            </a:ln>
          </p:spPr>
        </p:pic>
        <p:sp>
          <p:nvSpPr>
            <p:cNvPr id="13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irst Acceptance Period</a:t>
              </a:r>
              <a:endParaRPr b="0" lang="en-US" sz="4000" spc="-1" strike="noStrike">
                <a:solidFill>
                  <a:srgbClr val="000000"/>
                </a:solidFill>
                <a:latin typeface="Calibri"/>
              </a:endParaRPr>
            </a:p>
          </p:txBody>
        </p:sp>
      </p:grpSp>
      <p:pic>
        <p:nvPicPr>
          <p:cNvPr id="133"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34"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DDEF-ABE3-4B22-A4BE-3536876609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84EC-61D9-4515-80D2-EEFC6EFB72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3266-042C-41F0-82AB-146EE3EB0A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FF17-E0C9-4EE6-9156-F9A27267BF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367E-238A-47B7-84D3-40756EB55A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9" name="Content Placeholder 2"/>
          <p:cNvSpPr/>
          <p:nvPr/>
        </p:nvSpPr>
        <p:spPr>
          <a:xfrm>
            <a:off x="441360" y="1219320"/>
            <a:ext cx="8229600" cy="4419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Vehicle Retrofit and/or Purchase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 vehic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5 million in grant funds applied f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Refueling Infrastructure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fleet refueling projec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9 million in grant funds applied f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Innovative Technology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million in grant funds applied f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data to be compiled during scoring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0" name="Group 1"/>
          <p:cNvGrpSpPr/>
          <p:nvPr/>
        </p:nvGrpSpPr>
        <p:grpSpPr>
          <a:xfrm>
            <a:off x="289080" y="355680"/>
            <a:ext cx="8381880" cy="660240"/>
            <a:chOff x="289080" y="355680"/>
            <a:chExt cx="8381880" cy="660240"/>
          </a:xfrm>
        </p:grpSpPr>
        <p:pic>
          <p:nvPicPr>
            <p:cNvPr id="141" name="Picture 5" descr="Aging banner"/>
            <p:cNvPicPr/>
            <p:nvPr/>
          </p:nvPicPr>
          <p:blipFill>
            <a:blip r:embed="rId1"/>
            <a:stretch/>
          </p:blipFill>
          <p:spPr>
            <a:xfrm>
              <a:off x="289080" y="355680"/>
              <a:ext cx="8381880" cy="660240"/>
            </a:xfrm>
            <a:prstGeom prst="rect">
              <a:avLst/>
            </a:prstGeom>
            <a:ln w="0">
              <a:noFill/>
            </a:ln>
          </p:spPr>
        </p:pic>
        <p:sp>
          <p:nvSpPr>
            <p:cNvPr id="14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rst Application Period – What Did We Get?</a:t>
              </a:r>
              <a:endParaRPr b="0" lang="en-US" sz="3200" spc="-1" strike="noStrike">
                <a:solidFill>
                  <a:srgbClr val="000000"/>
                </a:solidFill>
                <a:latin typeface="Calibri"/>
              </a:endParaRPr>
            </a:p>
          </p:txBody>
        </p:sp>
      </p:grpSp>
      <p:pic>
        <p:nvPicPr>
          <p:cNvPr id="143"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44"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AC93-9CB3-4C9A-A0D1-4C52C36B52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523B-D742-49E0-A5DD-2B0436B086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B912-5566-4DD1-93A4-CFBDB26ED9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1FFC-CD90-447C-A854-9CE7D69EA4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D944-9610-4C58-869A-FA5C33441D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0032-2969-41DB-972E-FC35F4E367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0" name="Content Placeholder 2"/>
          <p:cNvSpPr/>
          <p:nvPr/>
        </p:nvSpPr>
        <p:spPr>
          <a:xfrm>
            <a:off x="441360" y="168264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Biofuel Use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biofuel use application was started and is a potential submission next perio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Home-Based Refueling Infrastructure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1 potential home-based refueling infrastructure application was started and is a potential submission next perio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51" name="Group 1"/>
          <p:cNvGrpSpPr/>
          <p:nvPr/>
        </p:nvGrpSpPr>
        <p:grpSpPr>
          <a:xfrm>
            <a:off x="289080" y="355680"/>
            <a:ext cx="8381880" cy="660240"/>
            <a:chOff x="289080" y="355680"/>
            <a:chExt cx="8381880" cy="660240"/>
          </a:xfrm>
        </p:grpSpPr>
        <p:pic>
          <p:nvPicPr>
            <p:cNvPr id="152" name="Picture 5" descr="Aging banner"/>
            <p:cNvPicPr/>
            <p:nvPr/>
          </p:nvPicPr>
          <p:blipFill>
            <a:blip r:embed="rId1"/>
            <a:stretch/>
          </p:blipFill>
          <p:spPr>
            <a:xfrm>
              <a:off x="289080" y="355680"/>
              <a:ext cx="8381880" cy="660240"/>
            </a:xfrm>
            <a:prstGeom prst="rect">
              <a:avLst/>
            </a:prstGeom>
            <a:ln w="0">
              <a:noFill/>
            </a:ln>
          </p:spPr>
        </p:pic>
        <p:sp>
          <p:nvSpPr>
            <p:cNvPr id="153"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irst Application Period – What Didn’t We Get?</a:t>
              </a:r>
              <a:endParaRPr b="0" lang="en-US" sz="3000" spc="-1" strike="noStrike">
                <a:solidFill>
                  <a:srgbClr val="000000"/>
                </a:solidFill>
                <a:latin typeface="Calibri"/>
              </a:endParaRPr>
            </a:p>
          </p:txBody>
        </p:sp>
      </p:grpSp>
      <p:pic>
        <p:nvPicPr>
          <p:cNvPr id="154"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55"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6AC6-5162-4439-9A83-3CB5FDEE05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D141-E0DB-4B17-8B04-0E024F8388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4526-B338-4B35-8D5B-B807058EB4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C2CA-3266-4ECF-A0B6-741DE19152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F51D-F544-4484-BA39-883DBC2A22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7CF1-B657-4414-A41C-2E16DDD85E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1A7D-8E30-4D00-8BC4-F45B379208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2" name="Content Placeholder 2"/>
          <p:cNvSpPr/>
          <p:nvPr/>
        </p:nvSpPr>
        <p:spPr>
          <a:xfrm>
            <a:off x="441360" y="194148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cipated award of grants in late June or early Ju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in grant agreement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rief of those applicants not award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going outrea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 manage, and lear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63" name="Group 1"/>
          <p:cNvGrpSpPr/>
          <p:nvPr/>
        </p:nvGrpSpPr>
        <p:grpSpPr>
          <a:xfrm>
            <a:off x="289080" y="355680"/>
            <a:ext cx="8381880" cy="660240"/>
            <a:chOff x="289080" y="355680"/>
            <a:chExt cx="8381880" cy="660240"/>
          </a:xfrm>
        </p:grpSpPr>
        <p:pic>
          <p:nvPicPr>
            <p:cNvPr id="164" name="Picture 5" descr="Aging banner"/>
            <p:cNvPicPr/>
            <p:nvPr/>
          </p:nvPicPr>
          <p:blipFill>
            <a:blip r:embed="rId1"/>
            <a:stretch/>
          </p:blipFill>
          <p:spPr>
            <a:xfrm>
              <a:off x="289080" y="355680"/>
              <a:ext cx="8381880" cy="660240"/>
            </a:xfrm>
            <a:prstGeom prst="rect">
              <a:avLst/>
            </a:prstGeom>
            <a:ln w="0">
              <a:noFill/>
            </a:ln>
          </p:spPr>
        </p:pic>
        <p:sp>
          <p:nvSpPr>
            <p:cNvPr id="165"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s Next?</a:t>
              </a:r>
              <a:endParaRPr b="0" lang="en-US" sz="4000" spc="-1" strike="noStrike">
                <a:solidFill>
                  <a:srgbClr val="000000"/>
                </a:solidFill>
                <a:latin typeface="Calibri"/>
              </a:endParaRPr>
            </a:p>
          </p:txBody>
        </p:sp>
      </p:grpSp>
      <p:pic>
        <p:nvPicPr>
          <p:cNvPr id="166"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67"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783C-2EE0-4125-8DF5-6472F915E6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4F7C-2ED3-477E-81A8-62FFCD91C1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6C3A-5194-4F45-84F0-02879C1D1C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277F-7451-4D1C-91CA-22319C1D4F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1" name="Content Placeholder 2"/>
          <p:cNvSpPr/>
          <p:nvPr/>
        </p:nvSpPr>
        <p:spPr>
          <a:xfrm>
            <a:off x="441360" y="11430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specific program requirements and application requirements, please refer to the AFIG Guidelines, which can be found online at: www.dep.pa.gov/Citizens/GrantsLoansRebates/Alternative-Fuels-Incentive-Gra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applications must be submitted via eGrants, which can be accessed at </a:t>
            </a:r>
            <a:endParaRPr b="0" lang="en-US" sz="2400" spc="-1" strike="noStrike">
              <a:solidFill>
                <a:srgbClr val="000000"/>
              </a:solidFill>
              <a:latin typeface="Calibri"/>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ahs.dep.pa.gov/eGrants/index.aspx</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72" name="Group 1"/>
          <p:cNvGrpSpPr/>
          <p:nvPr/>
        </p:nvGrpSpPr>
        <p:grpSpPr>
          <a:xfrm>
            <a:off x="289080" y="355680"/>
            <a:ext cx="8381880" cy="660240"/>
            <a:chOff x="289080" y="355680"/>
            <a:chExt cx="8381880" cy="660240"/>
          </a:xfrm>
        </p:grpSpPr>
        <p:pic>
          <p:nvPicPr>
            <p:cNvPr id="173" name="Picture 6" descr="Aging banner"/>
            <p:cNvPicPr/>
            <p:nvPr/>
          </p:nvPicPr>
          <p:blipFill>
            <a:blip r:embed="rId1"/>
            <a:stretch/>
          </p:blipFill>
          <p:spPr>
            <a:xfrm>
              <a:off x="289080" y="355680"/>
              <a:ext cx="8381880" cy="660240"/>
            </a:xfrm>
            <a:prstGeom prst="rect">
              <a:avLst/>
            </a:prstGeom>
            <a:ln w="0">
              <a:noFill/>
            </a:ln>
          </p:spPr>
        </p:pic>
        <p:sp>
          <p:nvSpPr>
            <p:cNvPr id="17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ow to Apply</a:t>
              </a:r>
              <a:endParaRPr b="0" lang="en-US" sz="4000" spc="-1" strike="noStrike">
                <a:solidFill>
                  <a:srgbClr val="000000"/>
                </a:solidFill>
                <a:latin typeface="Calibri"/>
              </a:endParaRPr>
            </a:p>
          </p:txBody>
        </p:sp>
      </p:grpSp>
      <p:pic>
        <p:nvPicPr>
          <p:cNvPr id="175"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76"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73D0-EF44-46DA-9A58-0D01C0E588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02E3-9445-4568-ADAB-AC6AD8B0AD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5B29-C278-4828-9B02-2FAC00C409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FE38-3540-4EF3-AC89-478E811A68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C9A8-36E4-410F-8337-0840E12A66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1" name="Content Placeholder 2"/>
          <p:cNvSpPr/>
          <p:nvPr/>
        </p:nvSpPr>
        <p:spPr>
          <a:xfrm>
            <a:off x="441360" y="1143000"/>
            <a:ext cx="8229600" cy="44197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82" name="Group 1"/>
          <p:cNvGrpSpPr/>
          <p:nvPr/>
        </p:nvGrpSpPr>
        <p:grpSpPr>
          <a:xfrm>
            <a:off x="289080" y="355680"/>
            <a:ext cx="8381880" cy="660240"/>
            <a:chOff x="289080" y="355680"/>
            <a:chExt cx="8381880" cy="660240"/>
          </a:xfrm>
        </p:grpSpPr>
        <p:pic>
          <p:nvPicPr>
            <p:cNvPr id="183" name="Picture 6" descr="Aging banner"/>
            <p:cNvPicPr/>
            <p:nvPr/>
          </p:nvPicPr>
          <p:blipFill>
            <a:blip r:embed="rId1"/>
            <a:stretch/>
          </p:blipFill>
          <p:spPr>
            <a:xfrm>
              <a:off x="289080" y="355680"/>
              <a:ext cx="8381880" cy="660240"/>
            </a:xfrm>
            <a:prstGeom prst="rect">
              <a:avLst/>
            </a:prstGeom>
            <a:ln w="0">
              <a:noFill/>
            </a:ln>
          </p:spPr>
        </p:pic>
        <p:sp>
          <p:nvSpPr>
            <p:cNvPr id="18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ontact</a:t>
              </a:r>
              <a:endParaRPr b="0" lang="en-US" sz="4000" spc="-1" strike="noStrike">
                <a:solidFill>
                  <a:srgbClr val="000000"/>
                </a:solidFill>
                <a:latin typeface="Calibri"/>
              </a:endParaRPr>
            </a:p>
          </p:txBody>
        </p:sp>
      </p:grpSp>
      <p:pic>
        <p:nvPicPr>
          <p:cNvPr id="185"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86"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23EA-1A89-4826-A768-C6CFCE62AF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7" name="Rectangle 11"/>
          <p:cNvSpPr/>
          <p:nvPr/>
        </p:nvSpPr>
        <p:spPr>
          <a:xfrm>
            <a:off x="289080" y="2014560"/>
            <a:ext cx="838188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ffice of Pollution Prevention &amp; Energy Assistance</a:t>
            </a:r>
            <a:br>
              <a:rPr sz="2800"/>
            </a:br>
            <a:br>
              <a:rPr sz="2400"/>
            </a:br>
            <a:r>
              <a:rPr b="1" lang="en-US" sz="2400" spc="-1" strike="noStrike">
                <a:solidFill>
                  <a:srgbClr val="000000"/>
                </a:solidFill>
                <a:latin typeface="Calibri"/>
              </a:rPr>
              <a:t>Dave Althoff (717-783.0542) dalthoff@pa.gov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Calibri"/>
              </a:rPr>
              <a:t>Josh Dziubek (717-783.8411) jdziubek@pa.g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66760" y="1295280"/>
            <a:ext cx="8229600" cy="3733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IG was originally created in 1992 and administered by the Pennsylvania Energy Office through Chapter 72 of the Vehicle Code. </a:t>
            </a:r>
            <a:endParaRPr b="0" lang="en-US" sz="24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lternative Fuels Incentive Grant (AFIG) Program was expanded in 2004 and 2008. </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an Alternative Fuel Vehicle (AFV) Rebate Program was created</a:t>
            </a:r>
            <a:endParaRPr b="0" lang="en-US" sz="20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goals of the Alternative Fuels Incentive Grant (AFIG) program are to improve Pennsylvania’s air quality and reduce consumption of imported oil through the use of domestic alternative fuels that will help the state’s economy and environment.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3" name="Group 1"/>
          <p:cNvGrpSpPr/>
          <p:nvPr/>
        </p:nvGrpSpPr>
        <p:grpSpPr>
          <a:xfrm>
            <a:off x="289080" y="355680"/>
            <a:ext cx="8381880" cy="660240"/>
            <a:chOff x="289080" y="355680"/>
            <a:chExt cx="8381880" cy="660240"/>
          </a:xfrm>
        </p:grpSpPr>
        <p:pic>
          <p:nvPicPr>
            <p:cNvPr id="54" name="Picture 5" descr="Aging banner"/>
            <p:cNvPicPr/>
            <p:nvPr/>
          </p:nvPicPr>
          <p:blipFill>
            <a:blip r:embed="rId1"/>
            <a:stretch/>
          </p:blipFill>
          <p:spPr>
            <a:xfrm>
              <a:off x="289080" y="355680"/>
              <a:ext cx="8381880" cy="660240"/>
            </a:xfrm>
            <a:prstGeom prst="rect">
              <a:avLst/>
            </a:prstGeom>
            <a:ln w="0">
              <a:noFill/>
            </a:ln>
          </p:spPr>
        </p:pic>
        <p:sp>
          <p:nvSpPr>
            <p:cNvPr id="55"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lternative Fuels Incentive Grant</a:t>
              </a:r>
              <a:endParaRPr b="0" lang="en-US" sz="4000" spc="-1" strike="noStrike">
                <a:solidFill>
                  <a:srgbClr val="000000"/>
                </a:solidFill>
                <a:latin typeface="Calibri"/>
              </a:endParaRPr>
            </a:p>
          </p:txBody>
        </p:sp>
      </p:grpSp>
      <p:pic>
        <p:nvPicPr>
          <p:cNvPr id="56"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57"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6CC4-5D19-4E68-8F6B-469E6E0620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D983-80B2-4FC6-8ED3-24371AE55C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98F4-0BB7-4F55-BA55-CAF2F98CBB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584B-4423-49F0-8EA8-B4622D71C4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F07F-FB80-46E4-9E4E-EF43163D47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D68C-8D43-4AF1-9D03-C0B9F08391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 name="Content Placeholder 2"/>
          <p:cNvSpPr/>
          <p:nvPr/>
        </p:nvSpPr>
        <p:spPr>
          <a:xfrm>
            <a:off x="441360" y="13716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IG Project Portfoli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3 Active Grant Projects – Approximately $7.3 million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6 Vehicle purchase/retrofit projects</a:t>
            </a:r>
            <a:endParaRPr b="0" lang="en-US" sz="24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NG, Propane, Electric</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Innovative Technology Projects</a:t>
            </a:r>
            <a:endParaRPr b="0" lang="en-US" sz="24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 Electric Vehicle Infrastructure – charging</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 Vehicle Battery Projects</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ydrogen Fueling Station</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NG Locomotive</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ilot/micro liquefied natural gas (LNG) production plant </a:t>
            </a:r>
            <a:endParaRPr b="0" lang="en-US" sz="2000" spc="-1" strike="noStrike">
              <a:solidFill>
                <a:srgbClr val="000000"/>
              </a:solidFill>
              <a:latin typeface="Calibri"/>
            </a:endParaRPr>
          </a:p>
        </p:txBody>
      </p:sp>
      <p:grpSp>
        <p:nvGrpSpPr>
          <p:cNvPr id="64" name="Group 1"/>
          <p:cNvGrpSpPr/>
          <p:nvPr/>
        </p:nvGrpSpPr>
        <p:grpSpPr>
          <a:xfrm>
            <a:off x="289080" y="355680"/>
            <a:ext cx="8381880" cy="660240"/>
            <a:chOff x="289080" y="355680"/>
            <a:chExt cx="8381880" cy="660240"/>
          </a:xfrm>
        </p:grpSpPr>
        <p:pic>
          <p:nvPicPr>
            <p:cNvPr id="65" name="Picture 5" descr="Aging banner"/>
            <p:cNvPicPr/>
            <p:nvPr/>
          </p:nvPicPr>
          <p:blipFill>
            <a:blip r:embed="rId1"/>
            <a:stretch/>
          </p:blipFill>
          <p:spPr>
            <a:xfrm>
              <a:off x="289080" y="355680"/>
              <a:ext cx="8381880" cy="660240"/>
            </a:xfrm>
            <a:prstGeom prst="rect">
              <a:avLst/>
            </a:prstGeom>
            <a:ln w="0">
              <a:noFill/>
            </a:ln>
          </p:spPr>
        </p:pic>
        <p:sp>
          <p:nvSpPr>
            <p:cNvPr id="66"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lternative Fuels Incentive Grant</a:t>
              </a:r>
              <a:endParaRPr b="0" lang="en-US" sz="4000" spc="-1" strike="noStrike">
                <a:solidFill>
                  <a:srgbClr val="000000"/>
                </a:solidFill>
                <a:latin typeface="Calibri"/>
              </a:endParaRPr>
            </a:p>
          </p:txBody>
        </p:sp>
      </p:grpSp>
      <p:pic>
        <p:nvPicPr>
          <p:cNvPr id="67"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68"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8870-B7B8-4821-92E1-70FD457C43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2334-1D77-4847-B8EB-75BD28A7C9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D882-F3A4-496C-8055-39BA9AB5E6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A5E9-EF90-49BF-8008-4B3379936B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3E3A-52DD-48D8-A525-EC3A27D887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3283-5F91-4B9C-93ED-DE35CF96CD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 name="Content Placeholder 2"/>
          <p:cNvSpPr/>
          <p:nvPr/>
        </p:nvSpPr>
        <p:spPr>
          <a:xfrm>
            <a:off x="441360" y="13716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2013, the Alternative Fuel Incentive Grant Program has provided: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t funds to 66 awardees to support the purchase or conversion for light and medium duty natural gas vehicles as well as propane and electric fleet vehicles of any siz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 has reimbursed grantees for the purchase or conversion of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4 vehicles totaling just over $1.75 million in program funds disbursed.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4 vehicles are estimated to be displacing approximately 754,473 gasoline gallon equivalents per yea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6 million in additional incremental costs have been expended on alternative fuel vehicles due to this program.</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75" name="Group 1"/>
          <p:cNvGrpSpPr/>
          <p:nvPr/>
        </p:nvGrpSpPr>
        <p:grpSpPr>
          <a:xfrm>
            <a:off x="289080" y="355680"/>
            <a:ext cx="8381880" cy="660240"/>
            <a:chOff x="289080" y="355680"/>
            <a:chExt cx="8381880" cy="660240"/>
          </a:xfrm>
        </p:grpSpPr>
        <p:pic>
          <p:nvPicPr>
            <p:cNvPr id="76" name="Picture 5" descr="Aging banner"/>
            <p:cNvPicPr/>
            <p:nvPr/>
          </p:nvPicPr>
          <p:blipFill>
            <a:blip r:embed="rId1"/>
            <a:stretch/>
          </p:blipFill>
          <p:spPr>
            <a:xfrm>
              <a:off x="289080" y="355680"/>
              <a:ext cx="8381880" cy="660240"/>
            </a:xfrm>
            <a:prstGeom prst="rect">
              <a:avLst/>
            </a:prstGeom>
            <a:ln w="0">
              <a:noFill/>
            </a:ln>
          </p:spPr>
        </p:pic>
        <p:sp>
          <p:nvSpPr>
            <p:cNvPr id="77"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lternative Fuels Incentive Grant</a:t>
              </a:r>
              <a:endParaRPr b="0" lang="en-US" sz="4000" spc="-1" strike="noStrike">
                <a:solidFill>
                  <a:srgbClr val="000000"/>
                </a:solidFill>
                <a:latin typeface="Calibri"/>
              </a:endParaRPr>
            </a:p>
          </p:txBody>
        </p:sp>
      </p:grpSp>
      <p:pic>
        <p:nvPicPr>
          <p:cNvPr id="78"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79"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A4B2-172B-44DC-836F-D889F2CCAF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66760" y="1295280"/>
            <a:ext cx="8229600" cy="3733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artment of Environmental Protection (DEP) offers an opportunity to Pennsylvania residents to apply for a rebate when they purchase a new alternative fuel vehicle (AFV).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to 2009 AFIG approved over 9,000 rebates for hybrid electric vehicle purchases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funding disbursed in excess of $4.5 million ($500 per rebate)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September 1, 2011 to current; over 2,000 rebates for EV, and PHEV, &amp; CNG vehicle purchases,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ing funding disbursed in excess of $5 million (varying rebate amounts)</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81" name="Group 1"/>
          <p:cNvGrpSpPr/>
          <p:nvPr/>
        </p:nvGrpSpPr>
        <p:grpSpPr>
          <a:xfrm>
            <a:off x="289080" y="355680"/>
            <a:ext cx="8381880" cy="660240"/>
            <a:chOff x="289080" y="355680"/>
            <a:chExt cx="8381880" cy="660240"/>
          </a:xfrm>
        </p:grpSpPr>
        <p:pic>
          <p:nvPicPr>
            <p:cNvPr id="82" name="Picture 5" descr="Aging banner"/>
            <p:cNvPicPr/>
            <p:nvPr/>
          </p:nvPicPr>
          <p:blipFill>
            <a:blip r:embed="rId1"/>
            <a:stretch/>
          </p:blipFill>
          <p:spPr>
            <a:xfrm>
              <a:off x="289080" y="355680"/>
              <a:ext cx="8381880" cy="660240"/>
            </a:xfrm>
            <a:prstGeom prst="rect">
              <a:avLst/>
            </a:prstGeom>
            <a:ln w="0">
              <a:noFill/>
            </a:ln>
          </p:spPr>
        </p:pic>
        <p:sp>
          <p:nvSpPr>
            <p:cNvPr id="83"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FV Rebate Program</a:t>
              </a:r>
              <a:endParaRPr b="0" lang="en-US" sz="4000" spc="-1" strike="noStrike">
                <a:solidFill>
                  <a:srgbClr val="000000"/>
                </a:solidFill>
                <a:latin typeface="Calibri"/>
              </a:endParaRPr>
            </a:p>
          </p:txBody>
        </p:sp>
      </p:grpSp>
      <p:pic>
        <p:nvPicPr>
          <p:cNvPr id="84"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85"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0712-CC8A-4EAC-96F9-277AE703BF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66760" y="1295280"/>
            <a:ext cx="8229600" cy="3733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lternative fuel vehicle (AFV) must be a new vehicle purchased by PA residents and registered in PA to be eligible for a rebate. </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 rebate amounts:</a:t>
            </a:r>
            <a:endParaRPr b="0" lang="en-US" sz="24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0 </a:t>
            </a:r>
            <a:r>
              <a:rPr b="0" lang="en-US" sz="2000" spc="-1" strike="noStrike">
                <a:solidFill>
                  <a:srgbClr val="000000"/>
                </a:solidFill>
                <a:latin typeface="Calibri"/>
              </a:rPr>
              <a:t>rebate for a plug-in hybrid electric vehicle (PHEV) (battery system capacity equal/greater than 10 kWh) and battery electric vehicle (EV) (battery system capacity equal/greater than 10 kWh)</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a:t>
            </a:r>
            <a:r>
              <a:rPr b="0" lang="en-US" sz="2000" spc="-1" strike="noStrike">
                <a:solidFill>
                  <a:srgbClr val="000000"/>
                </a:solidFill>
                <a:latin typeface="Calibri"/>
              </a:rPr>
              <a:t>rebate for a PHEV or EV (battery system capacity less than 10 kWh)</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a:t>
            </a:r>
            <a:r>
              <a:rPr b="0" lang="en-US" sz="2000" spc="-1" strike="noStrike">
                <a:solidFill>
                  <a:srgbClr val="000000"/>
                </a:solidFill>
                <a:latin typeface="Calibri"/>
              </a:rPr>
              <a:t>rebate for a compressed natural gas fueled vehicle (CNG) </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a:t>
            </a:r>
            <a:r>
              <a:rPr b="0" lang="en-US" sz="2000" spc="-1" strike="noStrike">
                <a:solidFill>
                  <a:srgbClr val="000000"/>
                </a:solidFill>
                <a:latin typeface="Calibri"/>
              </a:rPr>
              <a:t>rebate for a propane fueled vehicle (LPG)</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a:t>
            </a:r>
            <a:r>
              <a:rPr b="0" lang="en-US" sz="2000" spc="-1" strike="noStrike">
                <a:solidFill>
                  <a:srgbClr val="000000"/>
                </a:solidFill>
                <a:latin typeface="Calibri"/>
              </a:rPr>
              <a:t>rebate for a hydrogen and/or fuel cell vehicle (FC)</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00 </a:t>
            </a:r>
            <a:r>
              <a:rPr b="0" lang="en-US" sz="2000" spc="-1" strike="noStrike">
                <a:solidFill>
                  <a:srgbClr val="000000"/>
                </a:solidFill>
                <a:latin typeface="Calibri"/>
              </a:rPr>
              <a:t>rebate for an electric motorcycle/scooter (EMC)</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87" name="Group 1"/>
          <p:cNvGrpSpPr/>
          <p:nvPr/>
        </p:nvGrpSpPr>
        <p:grpSpPr>
          <a:xfrm>
            <a:off x="289080" y="355680"/>
            <a:ext cx="8381880" cy="660240"/>
            <a:chOff x="289080" y="355680"/>
            <a:chExt cx="8381880" cy="660240"/>
          </a:xfrm>
        </p:grpSpPr>
        <p:pic>
          <p:nvPicPr>
            <p:cNvPr id="88" name="Picture 5" descr="Aging banner"/>
            <p:cNvPicPr/>
            <p:nvPr/>
          </p:nvPicPr>
          <p:blipFill>
            <a:blip r:embed="rId1"/>
            <a:stretch/>
          </p:blipFill>
          <p:spPr>
            <a:xfrm>
              <a:off x="289080" y="355680"/>
              <a:ext cx="8381880" cy="660240"/>
            </a:xfrm>
            <a:prstGeom prst="rect">
              <a:avLst/>
            </a:prstGeom>
            <a:ln w="0">
              <a:noFill/>
            </a:ln>
          </p:spPr>
        </p:pic>
        <p:sp>
          <p:nvSpPr>
            <p:cNvPr id="89"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FV Rebate Program</a:t>
              </a:r>
              <a:endParaRPr b="0" lang="en-US" sz="4000" spc="-1" strike="noStrike">
                <a:solidFill>
                  <a:srgbClr val="000000"/>
                </a:solidFill>
                <a:latin typeface="Calibri"/>
              </a:endParaRPr>
            </a:p>
          </p:txBody>
        </p:sp>
      </p:grpSp>
      <p:pic>
        <p:nvPicPr>
          <p:cNvPr id="90"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91"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32C2-BD8E-4BBC-99C4-72A3E60621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70000" y="1219320"/>
            <a:ext cx="822960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tive AFIG Grant Progra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 is seeking applications for innovative, advanced fuel and vehicle technology projects resulting in cleaner transportation within the stat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s for grant funding will be accepted throughout calendar year 2016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 staff will competitively evaluate all completed applications (submitted to eGrants) after the deadlines of </a:t>
            </a:r>
            <a:r>
              <a:rPr b="1" lang="en-US" sz="2400" spc="-1" strike="noStrike">
                <a:solidFill>
                  <a:srgbClr val="000000"/>
                </a:solidFill>
                <a:latin typeface="Calibri"/>
              </a:rPr>
              <a:t>April 29, 2016, August 26, 2016, and December 30, 2016</a:t>
            </a:r>
            <a:r>
              <a:rPr b="0" lang="en-US" sz="2400" spc="-1" strike="noStrike">
                <a:solidFill>
                  <a:srgbClr val="000000"/>
                </a:solidFill>
                <a:latin typeface="Calibri"/>
              </a:rPr>
              <a:t>. </a:t>
            </a: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93" name="Group 1"/>
          <p:cNvGrpSpPr/>
          <p:nvPr/>
        </p:nvGrpSpPr>
        <p:grpSpPr>
          <a:xfrm>
            <a:off x="289080" y="355680"/>
            <a:ext cx="8381880" cy="660240"/>
            <a:chOff x="289080" y="355680"/>
            <a:chExt cx="8381880" cy="660240"/>
          </a:xfrm>
        </p:grpSpPr>
        <p:pic>
          <p:nvPicPr>
            <p:cNvPr id="94" name="Picture 5" descr="Aging banner"/>
            <p:cNvPicPr/>
            <p:nvPr/>
          </p:nvPicPr>
          <p:blipFill>
            <a:blip r:embed="rId1"/>
            <a:stretch/>
          </p:blipFill>
          <p:spPr>
            <a:xfrm>
              <a:off x="289080" y="355680"/>
              <a:ext cx="8381880" cy="660240"/>
            </a:xfrm>
            <a:prstGeom prst="rect">
              <a:avLst/>
            </a:prstGeom>
            <a:ln w="0">
              <a:noFill/>
            </a:ln>
          </p:spPr>
        </p:pic>
        <p:sp>
          <p:nvSpPr>
            <p:cNvPr id="95"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FIG 2016 Funding Availability</a:t>
              </a:r>
              <a:endParaRPr b="0" lang="en-US" sz="4000" spc="-1" strike="noStrike">
                <a:solidFill>
                  <a:srgbClr val="000000"/>
                </a:solidFill>
                <a:latin typeface="Calibri"/>
              </a:endParaRPr>
            </a:p>
          </p:txBody>
        </p:sp>
      </p:grpSp>
      <p:pic>
        <p:nvPicPr>
          <p:cNvPr id="96" name="Picture 4" descr="V:\DEP Logos &amp; Graphics\PNG files\DEP-left-rgb.png"/>
          <p:cNvPicPr/>
          <p:nvPr/>
        </p:nvPicPr>
        <p:blipFill>
          <a:blip r:embed="rId2"/>
          <a:stretch/>
        </p:blipFill>
        <p:spPr>
          <a:xfrm>
            <a:off x="6335640" y="6087960"/>
            <a:ext cx="2590920" cy="547920"/>
          </a:xfrm>
          <a:prstGeom prst="rect">
            <a:avLst/>
          </a:prstGeom>
          <a:ln w="0">
            <a:noFill/>
          </a:ln>
        </p:spPr>
      </p:pic>
      <p:sp>
        <p:nvSpPr>
          <p:cNvPr id="97"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BEE2-3700-4935-8083-86671B88D8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8720" y="2628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
          <p:cNvSpPr txBox="1"/>
          <p:nvPr/>
        </p:nvSpPr>
        <p:spPr>
          <a:xfrm>
            <a:off x="441360" y="1142640"/>
            <a:ext cx="8229600" cy="39625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ligible Applicants Include: </a:t>
            </a: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districts, municipal authorities, political subdivisions, incorporated non-profit entities, corporations, and limited liability companies or partnerships registered to do business in P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ligible Alternative Fuel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transportation fuel other than conventional fuels: gasoline and diesel. This includes, but is not limited to: compressed natural gas (CNG), liquified natural gas (LNG), propane, hydrogen, hythane, electricity, biodiesel, ethanol, methanol, and other advanced biofuels. </a:t>
            </a:r>
            <a:endParaRPr b="0" lang="en-US" sz="2400" spc="-1" strike="noStrike">
              <a:solidFill>
                <a:srgbClr val="000000"/>
              </a:solidFill>
              <a:latin typeface="Calibri"/>
            </a:endParaRPr>
          </a:p>
        </p:txBody>
      </p:sp>
      <p:grpSp>
        <p:nvGrpSpPr>
          <p:cNvPr id="100" name="Group 1"/>
          <p:cNvGrpSpPr/>
          <p:nvPr/>
        </p:nvGrpSpPr>
        <p:grpSpPr>
          <a:xfrm>
            <a:off x="289080" y="355680"/>
            <a:ext cx="8381880" cy="660240"/>
            <a:chOff x="289080" y="355680"/>
            <a:chExt cx="8381880" cy="660240"/>
          </a:xfrm>
        </p:grpSpPr>
        <p:pic>
          <p:nvPicPr>
            <p:cNvPr id="101" name="Picture 5" descr="Aging banner"/>
            <p:cNvPicPr/>
            <p:nvPr/>
          </p:nvPicPr>
          <p:blipFill>
            <a:blip r:embed="rId1"/>
            <a:stretch/>
          </p:blipFill>
          <p:spPr>
            <a:xfrm>
              <a:off x="289080" y="355680"/>
              <a:ext cx="8381880" cy="660240"/>
            </a:xfrm>
            <a:prstGeom prst="rect">
              <a:avLst/>
            </a:prstGeom>
            <a:ln w="0">
              <a:noFill/>
            </a:ln>
          </p:spPr>
        </p:pic>
        <p:sp>
          <p:nvSpPr>
            <p:cNvPr id="10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igibility</a:t>
              </a:r>
              <a:endParaRPr b="0" lang="en-US" sz="4000" spc="-1" strike="noStrike">
                <a:solidFill>
                  <a:srgbClr val="000000"/>
                </a:solidFill>
                <a:latin typeface="Calibri"/>
              </a:endParaRPr>
            </a:p>
          </p:txBody>
        </p:sp>
      </p:grpSp>
      <p:pic>
        <p:nvPicPr>
          <p:cNvPr id="103"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04"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D575-9934-4930-8ED5-620F1DEA53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13DD-8A80-469E-9EBA-6DEDF38830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 name="Content Placeholder 2"/>
          <p:cNvSpPr/>
          <p:nvPr/>
        </p:nvSpPr>
        <p:spPr>
          <a:xfrm>
            <a:off x="441360" y="11430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Vehicle Retrofit and/or New Purchase: </a:t>
            </a:r>
            <a:r>
              <a:rPr b="0" lang="en-US" sz="2400" spc="-1" strike="noStrike">
                <a:solidFill>
                  <a:srgbClr val="000000"/>
                </a:solidFill>
                <a:latin typeface="Calibri"/>
              </a:rPr>
              <a:t>This category provides funding to cover a portion (50%) of the incremental costs to those applicants purchasing new alternative fuel vehicles or retrofitting vehicles to use alternative fuel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ternative Fuel Refueling Infrastructure Projects: </a:t>
            </a:r>
            <a:r>
              <a:rPr b="0" lang="en-US" sz="2400" spc="-1" strike="noStrike">
                <a:solidFill>
                  <a:srgbClr val="000000"/>
                </a:solidFill>
                <a:latin typeface="Calibri"/>
              </a:rPr>
              <a:t>This category provides funding to purchase and install refueling equipment for alternative fuel fleet vehicles. There are two distinct sub-categories: </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leet Refueling Projec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me-Based Refueling Projects</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07" name="Group 1"/>
          <p:cNvGrpSpPr/>
          <p:nvPr/>
        </p:nvGrpSpPr>
        <p:grpSpPr>
          <a:xfrm>
            <a:off x="289080" y="355680"/>
            <a:ext cx="8381880" cy="660240"/>
            <a:chOff x="289080" y="355680"/>
            <a:chExt cx="8381880" cy="660240"/>
          </a:xfrm>
        </p:grpSpPr>
        <p:pic>
          <p:nvPicPr>
            <p:cNvPr id="108" name="Picture 5" descr="Aging banner"/>
            <p:cNvPicPr/>
            <p:nvPr/>
          </p:nvPicPr>
          <p:blipFill>
            <a:blip r:embed="rId1"/>
            <a:stretch/>
          </p:blipFill>
          <p:spPr>
            <a:xfrm>
              <a:off x="289080" y="355680"/>
              <a:ext cx="8381880" cy="660240"/>
            </a:xfrm>
            <a:prstGeom prst="rect">
              <a:avLst/>
            </a:prstGeom>
            <a:ln w="0">
              <a:noFill/>
            </a:ln>
          </p:spPr>
        </p:pic>
        <p:sp>
          <p:nvSpPr>
            <p:cNvPr id="109"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igible Project Categories</a:t>
              </a:r>
              <a:endParaRPr b="0" lang="en-US" sz="4000" spc="-1" strike="noStrike">
                <a:solidFill>
                  <a:srgbClr val="000000"/>
                </a:solidFill>
                <a:latin typeface="Calibri"/>
              </a:endParaRPr>
            </a:p>
          </p:txBody>
        </p:sp>
      </p:grpSp>
      <p:pic>
        <p:nvPicPr>
          <p:cNvPr id="110"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11"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FB44-A51F-4671-9FD5-A8C1E6B130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6T16:53:07Z</dcterms:created>
  <dc:creator>Geoff Bristow</dc:creator>
  <dc:description/>
  <dc:language>en-US</dc:language>
  <cp:lastModifiedBy>Hetherington Cunfer, Katherine</cp:lastModifiedBy>
  <cp:lastPrinted>2016-05-12T15:34:14Z</cp:lastPrinted>
  <dcterms:modified xsi:type="dcterms:W3CDTF">2016-05-13T20:26:09Z</dcterms:modified>
  <cp:revision>191</cp:revision>
  <dc:subject/>
  <dc:title>Pennsylvania’s Natural Gas Vehicle Grant Program</dc:title>
</cp:coreProperties>
</file>